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5BA-06A0-4300-A275-6F0169F5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0012-881B-42D8-B88A-B9E8FBE6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1E93-5837-4630-8126-342F61DF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711-CA56-435C-90AB-39177E1D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7122-5F7E-4281-8E02-2EB09E62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69DB-8D20-4059-8277-0F8CE565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3F83-B716-4228-84C1-B17E55B5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CC3E-9607-4310-A159-00AF1207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6EEA-5841-4CB7-969D-DB5C5C11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E9E9-CE7E-46A2-99ED-D2418988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47BD-BD79-44F6-BDFB-1915589A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F6F-48AB-4861-B723-1FB389FE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75A7-A796-46A2-9816-E24E47BE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CFAC-AC19-4647-91B4-31A17338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DC7C-7741-414E-BB11-B0810AE2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BB70-A7E1-417A-901D-F6E67D7A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0F7C-E981-4817-BA96-090EEACF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F99-4611-4369-8711-71D26391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6BF-762C-48B3-A083-F14415EB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A25-562F-49B3-BCE5-6CE17EFF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66C-073A-418C-9532-512E2255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F93-0C6B-4064-8888-2165F685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830-0A93-4149-9EA1-4F1CD746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9F2F-4346-4300-A2B2-FA715DDD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4490-8181-4D3B-997E-00D8AB0ED61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BAE9-4C54-4A5E-B453-1EB7B2C8827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508360" y="1830240"/>
            <a:ext cx="259236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4400" spc="-1" strike="noStrike">
                <a:solidFill>
                  <a:srgbClr val="ffffff"/>
                </a:solidFill>
                <a:latin typeface="Arial Black"/>
              </a:rPr>
              <a:t>poli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Police are very fas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Police are smar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Police are highly trained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10000" cy="17524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2627280" y="0"/>
            <a:ext cx="2666880" cy="17146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5292720" y="0"/>
            <a:ext cx="2160720" cy="17114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262880" y="3213000"/>
            <a:ext cx="174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 u="sng">
                <a:solidFill>
                  <a:srgbClr val="ffcc00"/>
                </a:solidFill>
                <a:uFillTx/>
                <a:latin typeface="Arial"/>
              </a:rPr>
              <a:t>Police are good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 Black"/>
              </a:rPr>
              <a:t>Police dogs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51640" y="3716280"/>
            <a:ext cx="28065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dogs are train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5010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Thumbnail"/>
          <p:cNvPicPr/>
          <p:nvPr/>
        </p:nvPicPr>
        <p:blipFill>
          <a:blip r:embed="rId2"/>
          <a:stretch/>
        </p:blipFill>
        <p:spPr>
          <a:xfrm>
            <a:off x="3132000" y="1989000"/>
            <a:ext cx="2808360" cy="23036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8532720" y="3284640"/>
            <a:ext cx="184320" cy="18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 u="sng">
                <a:solidFill>
                  <a:srgbClr val="ffcc00"/>
                </a:solidFill>
                <a:uFillTx/>
                <a:latin typeface="Arial"/>
              </a:rPr>
              <a:t>http://www.youtube.com/watch?v=TIRvVBpT-4w&amp;feature=player_detailpage#t=119s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635280" y="5229360"/>
            <a:ext cx="1943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Swat and polic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Swat has heavy armed vocals and a very big track that car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swa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Police cars are  orange and blue and red and white ca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Swat are a good tea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11280" y="479736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276720" y="5013360"/>
            <a:ext cx="3533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and criminals </a:t>
            </a:r>
            <a:br>
              <a:rPr sz="4400"/>
            </a:b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Criminals are bad peop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catch the bad peop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2411280" y="5013360"/>
            <a:ext cx="28576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Swat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Swat are a type of poli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0" y="51148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are g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635280" y="3933720"/>
            <a:ext cx="3564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21:44:23Z</dcterms:created>
  <dc:creator>5e17</dc:creator>
  <dc:description/>
  <dc:language>en-US</dc:language>
  <cp:lastModifiedBy>5e17</cp:lastModifiedBy>
  <dcterms:modified xsi:type="dcterms:W3CDTF">2011-09-09T00:00:47Z</dcterms:modified>
  <cp:revision>8</cp:revision>
  <dc:subject/>
  <dc:title>police</dc:title>
</cp:coreProperties>
</file>